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37C-9D16-4FC1-9A4A-6BF4DFC8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B35-7143-42ED-8298-D9FAC3F7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219-9617-4458-A334-0AC7B3BF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3A0-8424-401E-85D6-9A59D55F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684-E16E-426F-AB80-0321CC6E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5E3-7972-4028-A1B3-324B6B77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560-042F-4F79-A1E7-959E52E5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705-BB3B-4E13-B877-662759F4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B4B-222C-4BAB-8A2D-9D4EAF37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BBF-6DCD-4D25-9C57-5ACA9395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9B6-1846-4BBE-8807-0628BE6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438-E203-4671-AAED-4B2E979D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313B-1B19-4296-A153-73CFBE598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/imgres?imgurl=http://www.fullissue.com/wp-content/uploads/Vladimir-Lenin.jpg&amp;imgrefurl=http://www.fullissue.com/index.php/vladimir-lenin-biography-1870%25E2%2580%25931924.html&amp;usg=__F0xk17O-KlyIVHwG2IdGRMGFv_Y=&amp;h=446&amp;w=320&amp;sz=24&amp;hl=en&amp;start=4&amp;zoom=1&amp;itbs=1&amp;tbnid=lqmKSGM_Z6UZeM:&amp;tbnh=127&amp;tbnw=91&amp;prev=/images%3Fq%3Dvladimir%2Blenin%26hl%3Den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0000"/>
                </a:solidFill>
                <a:latin typeface="comic"/>
              </a:rPr>
              <a:t>Russia history 1918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By: S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     </a:t>
            </a: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Bi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      </a:t>
            </a: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f21"/>
            </a:gs>
            <a:gs pos="100000">
              <a:srgbClr val="6675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80880" y="19080"/>
            <a:ext cx="982980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of soivet u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vember 1917 the russian government was over thr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Vladimir Lenin</a:t>
            </a: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dopted the government of</a:t>
            </a: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3352680"/>
            <a:ext cx="25909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1- grermans invade soivet Late 1940’s soivets gain control of Eastern Europe u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2-1943- soivets prevent capture of Stalingr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5- soivets capture Ber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7544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d war was from 1945-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viet union competed against the U.S.A. for nuclear power and a man to the moon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ivet union almost won by sending Sputnik in space to orbit arou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viet Union almost got to the moon first but the U.S.A sent Apollo 11 to the moo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43200" y="5334120"/>
            <a:ext cx="62485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good and the b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eatles visited russia in the 1960’s and made a song called back in the U.S.S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re first in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ions of people died In world war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Nuclear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Gaint nuclear reactor mel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Chernobyl had a nuclear reactor exploded and caused many deaths, and the soil was unsafe to plant on and the babies had birth defects. &gt;_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8229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de Latin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5105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733920" cy="29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eph 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won out over the others and became the Soviet Unions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also set up  plans that took  five-years to industrialize the country. these were programs that set goals for the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724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32:43Z</dcterms:created>
  <dc:creator> </dc:creator>
  <dc:description/>
  <dc:language>en-US</dc:language>
  <cp:lastModifiedBy> </cp:lastModifiedBy>
  <dcterms:modified xsi:type="dcterms:W3CDTF">2010-12-20T17:13:25Z</dcterms:modified>
  <cp:revision>8</cp:revision>
  <dc:subject/>
  <dc:title>Russia history 1918- 2010</dc:title>
</cp:coreProperties>
</file>